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699-3E50-4BD1-B67D-16B2E2B0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4E0-45DE-4DFB-B31D-6DD86CA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3A3-4D91-4A2E-B53F-4924C2F9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EDC-63EC-44DA-AD34-E574A42D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D1D-F958-427A-97F9-11B9BB19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ED8-EAB3-47FE-B972-45E5DB9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CE3D-D07D-4E95-9436-3DB98C5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6B73-4136-4A98-B62C-85BCE755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05A3-70D4-49B7-85CE-0C0447CA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F33-DDA5-44CD-A4FD-22E4AC5E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ABBB-5FD3-4318-855A-BD21114B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26E-2715-4F9F-87A9-856BE839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CB45-7430-4142-BCB1-5464F7EC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6234-DBD0-449F-95C3-8140EF10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C2DE-B93D-4CE8-9DA5-705C38DB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E438-D113-4FE2-B34B-D390E34C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DB6B-7817-4792-997E-F40327DE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16B-CFC7-442A-8088-4684B54B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F2F-327D-484C-B70C-63827BF4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17E-A427-4BA5-BC82-0B3733EE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A7A-97D8-46D5-B38C-25FF7F16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B3-F9B6-4577-ABF5-A20FE6F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6D3-FED3-4D3F-A2DC-3004D895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CF7-155B-4EFB-AD62-3281F2E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629-62A8-46EE-8EAC-4E43D6D65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DE42-C3C5-48F6-A411-8FC2CF1BE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99080" y="1828800"/>
            <a:ext cx="57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Thes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Statement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76212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A </a:t>
            </a:r>
            <a:r>
              <a:rPr b="0" lang="en-US" sz="4400" spc="-1" strike="noStrike">
                <a:solidFill>
                  <a:srgbClr val="ff0066"/>
                </a:solidFill>
                <a:latin typeface="Cooper Black"/>
              </a:rPr>
              <a:t>working thesis </a:t>
            </a:r>
            <a:r>
              <a:rPr b="0" lang="en-US" sz="4400" spc="-1" strike="noStrike">
                <a:solidFill>
                  <a:srgbClr val="33cc33"/>
                </a:solidFill>
                <a:latin typeface="Cooper Black"/>
                <a:ea typeface="Times New Roman"/>
              </a:rPr>
              <a:t>may change as you revise and redraft what you write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This is okay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oper Black"/>
              </a:rPr>
              <a:t>You are not locked into your original idea if you think of something bet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8088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6699"/>
                </a:solidFill>
                <a:latin typeface="Ravie"/>
              </a:rPr>
              <a:t>Guidelines for Writing Effective </a:t>
            </a: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Thes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Ravie"/>
              </a:rPr>
              <a:t>Statem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99072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Clearly define   your opinio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Make sure your readers know what you think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533520"/>
            <a:ext cx="77724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any people have different opinions on whether people under twenty-one</a:t>
            </a:r>
            <a:r>
              <a:rPr b="1" lang="en-US" sz="4400" spc="-1" strike="noStrike">
                <a:solidFill>
                  <a:srgbClr val="666699"/>
                </a:solidFill>
                <a:latin typeface="Ravie"/>
              </a:rPr>
              <a:t> </a:t>
            </a: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should be permitted to drink alcohol, and I agree with som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60948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question of whether we need a national law governing the minimum age to drink alcohol is a controversial issue in many sta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45720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 want to give my opinion on the national law that sets twenty-one as the legal age to drink alcohol and the reasons I feel this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228600"/>
            <a:ext cx="77724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reduce the number of highway fatalities, our country needs to enforce a national law that designates twenty-one as the legal minimum age to purchase and consume alcoh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53352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legal minimum age to purchase alcohol should be eighteen rather than twenty-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1600200"/>
            <a:ext cx="7848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Hav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ONE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main ide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This is not as easy as it sou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533520"/>
            <a:ext cx="7848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proposed no-smoking ordinance in our town will violate a number of our citizens’ civil rights, and no one has proved secondary smoke is dangerous any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1447920"/>
            <a:ext cx="7848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A </a:t>
            </a:r>
            <a:r>
              <a:rPr b="0" lang="en-US" sz="4800" spc="-1" strike="noStrike">
                <a:solidFill>
                  <a:srgbClr val="ff0066"/>
                </a:solidFill>
                <a:latin typeface="Cooper Black"/>
              </a:rPr>
              <a:t>thesis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is the main idea      of your pape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It is contained in a           </a:t>
            </a:r>
            <a:r>
              <a:rPr b="0" lang="en-US" sz="4800" spc="-1" strike="noStrike">
                <a:solidFill>
                  <a:srgbClr val="ff0066"/>
                </a:solidFill>
                <a:latin typeface="Cooper Black"/>
              </a:rPr>
              <a:t>thesis statement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533520"/>
            <a:ext cx="7848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wo Thes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proposed no-smoking ordinance in our town will violate a number of our citizens’ civil r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o one has proved secondary smoke is dangero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53352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proposed no-smoking ordinance in our town will violate our civil r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5335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most recent U.S. Health Department studies claiming that secondary smoke is dangerous to nonsmokers are based on faulty rese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533520"/>
            <a:ext cx="7848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High school athletes shouldn’t have to maintain a certain grade-point average to participate in school sports, and the value of sports is often worth the lower academic aver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533520"/>
            <a:ext cx="7848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wo Thes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High school athletes shouldn’t have to maintain a certain grade-point average to participate in school spor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value of sports is often worth the lower academic aver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7848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High school athletes shouldn’t have to maintain a certain grade-point average to participate in school spor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5335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, pick 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For some students, participation in sports may be more valuable than achieving a high grade-point aver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60020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Say            something worthwhil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676520"/>
            <a:ext cx="7772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If you write it well, any subject can be made interesting.  But some subjects are more predictable and boring than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53352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Dogs have always been man’s best frie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essay may be full of boring clichés about dogs’ faithfulness to their mast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371600"/>
            <a:ext cx="77724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So, just what the heck IS a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thesis statement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, anyway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533520"/>
            <a:ext cx="77724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Friendship is a wonderful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DU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gain, watch for tired old ideas that just restate the obvio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Food in the school cafeteria is horri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Although this essay can be livened up with some really, truly gross descriptions, the topic has been done to de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53352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o Improve The Last 3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PICK A DIFFERENT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914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Sometimes you are asked to write about yourself in an essay; after all, you are the world’s greatest expert on you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914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The problem with this is that not all topics you generate this way will interest others as the subject is just too pers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9144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In this case you need to UNIVERSALIZE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so that others can get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four children in my family have completely different personali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is might be true, but would anyone outside your family and friends really c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Universalize the Thesi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irth order can influence children’s personalities in startling w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You can use the same examples from the last thesis, but now others are more likely to buy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I don’t like to take courses that are held in big lecture classes at this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Why should your readers care one way or another about your class p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5335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Universalize the Thesi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Large lecture classes provide a poor environment for the student who learns best through interaction with both teachers and pe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685800"/>
            <a:ext cx="8153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oper Black"/>
              </a:rPr>
              <a:t>A </a:t>
            </a: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thesis statement</a:t>
            </a:r>
            <a:r>
              <a:rPr b="0" lang="en-US" sz="2800" spc="-1" strike="noStrike">
                <a:solidFill>
                  <a:srgbClr val="660066"/>
                </a:solidFill>
                <a:latin typeface="Cooper Black"/>
              </a:rPr>
              <a:t> is a sentence that answers these questions for your reader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What is the subject of this essa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What is the writer’s opinion on this    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subjec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What is the writer’s purpose in this 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oper Black"/>
              </a:rPr>
              <a:t>essay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6765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Limit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  to fit the assignmen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5335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uclear power should be banned as an energy source in this cou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Can you really give the broad subject of nuclear power a fair treatment in 250 to 500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arrowed Top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ecause of its poor safety record during the past two years, the Collin County nuclear power plant should be clo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53352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African-American artists have always contributed a lot to many kinds of American cul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Narrowed Top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Scott Joplin was a major influence in the development of the uniquely American music called rag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160020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State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  in specific term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53352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women’s movement is good for the cou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5335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ore Specif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The Alabama Women’s Party is working to ensure the benefits of equal pay for equal work for both males and females in our st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Living away from home in an apartment for the first time can teach you many things about taking care of yourse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5335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More Specific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By living in an apartment, college freshmen can learn valuable lessons in financial planning and time manage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6858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Ravie"/>
              </a:rPr>
              <a:t>Everything</a:t>
            </a:r>
            <a:r>
              <a:rPr b="1" lang="en-US" sz="6000" spc="-1" strike="noStrike">
                <a:solidFill>
                  <a:srgbClr val="3694b6"/>
                </a:solidFill>
                <a:latin typeface="Ravie"/>
              </a:rPr>
              <a:t> you write in your paper should support your </a:t>
            </a:r>
            <a:r>
              <a:rPr b="1" lang="en-US" sz="60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1" lang="en-US" sz="6000" spc="-1" strike="noStrike">
                <a:solidFill>
                  <a:srgbClr val="3694b6"/>
                </a:solidFill>
                <a:latin typeface="Ravie"/>
              </a:rPr>
              <a:t>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762120"/>
            <a:ext cx="7848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should be easily recognizable as the main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Ideally the </a:t>
            </a:r>
            <a:r>
              <a:rPr b="0" lang="en-US" sz="4400" spc="-1" strike="noStrike">
                <a:solidFill>
                  <a:srgbClr val="ff0066"/>
                </a:solidFill>
                <a:latin typeface="Ravie"/>
              </a:rPr>
              <a:t>thesis statement</a:t>
            </a:r>
            <a:r>
              <a:rPr b="0" lang="en-US" sz="4400" spc="-1" strike="noStrike">
                <a:solidFill>
                  <a:srgbClr val="33cc33"/>
                </a:solidFill>
                <a:latin typeface="Ravie"/>
              </a:rPr>
              <a:t> should show up in the first or second paragrap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838080"/>
            <a:ext cx="7772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Comic Sans MS"/>
              </a:rPr>
              <a:t>An expository or persuasive essay is not a story.  You need the thesis up front in order to give your readers a context for the supporting details in the pap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1447920"/>
            <a:ext cx="77724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What if I am not sure what my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thesis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 is going to be in my early draft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447920"/>
            <a:ext cx="7772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In your early drafts you will use 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“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working thesis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762120"/>
            <a:ext cx="77724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A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working thesis 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  <a:ea typeface="Times New Roman"/>
              </a:rPr>
              <a:t>is a statement of your main point in the rough draft phas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  <a:ea typeface="Times New Roman"/>
              </a:rPr>
              <a:t>It helps to keep you on track.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762120"/>
            <a:ext cx="777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But what happens if I change my </a:t>
            </a:r>
            <a:r>
              <a:rPr b="0" lang="en-US" sz="5400" spc="-1" strike="noStrike">
                <a:solidFill>
                  <a:srgbClr val="ff0066"/>
                </a:solidFill>
                <a:latin typeface="Cooper Black"/>
              </a:rPr>
              <a:t>thesis</a:t>
            </a:r>
            <a:r>
              <a:rPr b="0" lang="en-US" sz="5400" spc="-1" strike="noStrike">
                <a:solidFill>
                  <a:srgbClr val="33cc33"/>
                </a:solidFill>
                <a:latin typeface="Cooper Black"/>
              </a:rPr>
              <a:t> as I revise my pape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2:24:40Z</dcterms:created>
  <dc:creator>Art Belliveau</dc:creator>
  <dc:description/>
  <dc:language>en-US</dc:language>
  <cp:lastModifiedBy>Angie</cp:lastModifiedBy>
  <dcterms:modified xsi:type="dcterms:W3CDTF">2009-05-07T04:52:30Z</dcterms:modified>
  <cp:revision>18</cp:revision>
  <dc:subject/>
  <dc:title>PowerPoint Presentation</dc:title>
</cp:coreProperties>
</file>